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F93C-F52C-43DB-86BB-52D0658A88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бозначается диапазон ячеек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существляется запись арифметического выраж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различия между относительными и абсолютными ссылка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е категории подразделяются встроенные функци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типы диаграмм можно построить с помощью электронной таблиц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вы основные элементы области диаграммы и их назнач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отличается электронная таблица от текстового редактор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возможности заложены в электронной таблиц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ислите основные элементы электронной табл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бозначаются столбцы и строки электронной таблиц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операции можно производить над основными объектами электронной таблиц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е программное средство называют электронной таблиц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 типы данных могут храниться в ячейк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и типами данных может оперировать электронная таблиц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B39-097F-40A9-B343-6DEA5B57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9AC-7077-434F-8AEC-DF999DF2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55D-C8AC-4806-9D47-7FFB5B51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63D-B992-4012-80DF-574F4290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8D3E-A55A-4421-935F-F851F061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260A-E17C-43F4-BD31-32F30BF3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ACA4-5D5A-4215-A30C-9466DFE4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7AB5-076D-42E9-B58A-B9AD7E24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1A7D-79B6-4BC2-ADFE-27A3DD5C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BD3F-F800-4E24-BF1A-3BA74036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7A6D-A525-449B-8408-02635ABC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724-AF7C-45D4-A1A6-E757C078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33EF-9C65-400B-80E2-17F1B3F9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8AF2-F2AC-4428-B255-90D7ACD7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E862-C460-43FF-9EDF-53735332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9E3B-ABC5-4535-A985-81D3A59D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9796-4AF0-436A-9A93-84ECE297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322-E97A-4813-A065-BCA9D5EF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7F6-BC12-41C1-95AB-A1774741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581-55AE-4AB4-A96A-23BBAFB0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A23-BED5-46B5-B918-5AA22FF2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6EE-7443-419F-98AA-B2E36771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AD7-873D-4163-AF09-E560CF13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2F7-B58E-430D-87B6-52EFE8EA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79A7-83D3-4D84-B5BC-2A29B814125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8695-7D8B-4110-860E-3A3EBC50779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Эстафе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нтрольные вопрос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9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1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1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1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1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1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7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опрос №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07:24:59Z</dcterms:created>
  <dc:creator>ученик</dc:creator>
  <dc:description/>
  <dc:language>en-US</dc:language>
  <cp:lastModifiedBy>ученик</cp:lastModifiedBy>
  <dcterms:modified xsi:type="dcterms:W3CDTF">2007-01-05T08:36:30Z</dcterms:modified>
  <cp:revision>1</cp:revision>
  <dc:subject/>
  <dc:title>             Эстафета</dc:title>
</cp:coreProperties>
</file>